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D19-D62E-47F6-9401-B3E6FF06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CF7-1878-40EC-A28D-4F73408F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C84-F620-47AE-A70F-CD65B550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120-8DA9-4D93-805E-0B944D35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B3C-9C39-4312-A5D4-2BF0BBBD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707-C824-40CE-9D67-77CC2832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B6C-E20E-4936-A111-9411F277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F77-F9CB-43B0-85DE-3C89F7BB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135-5766-42AB-AE94-11F6CD2E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EBB-5F6F-4015-97D4-5F8D4346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96B-6044-46CE-A3D5-BBA67231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7AD-BED4-41D3-8FF5-0E5FEE3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5B57-A81A-4297-919E-FAA37F8DB8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Georgian_Lane_Dining_Room_Table_And_Chair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380880" y="59436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Las Comidas De Elizabeth Glea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671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711360" y="4953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Para el desayuno 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ContentSectionFileHandler"/>
          <p:cNvPicPr/>
          <p:nvPr/>
        </p:nvPicPr>
        <p:blipFill>
          <a:blip r:embed="rId2"/>
          <a:stretch/>
        </p:blipFill>
        <p:spPr>
          <a:xfrm>
            <a:off x="6858000" y="1143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6993720" y="32767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pan to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Waffles_with_Strawberries"/>
          <p:cNvPicPr/>
          <p:nvPr/>
        </p:nvPicPr>
        <p:blipFill>
          <a:blip r:embed="rId3"/>
          <a:stretch/>
        </p:blipFill>
        <p:spPr>
          <a:xfrm>
            <a:off x="3581280" y="11430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3683520" y="325116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Los gofres con f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cinnamonroll1"/>
          <p:cNvPicPr/>
          <p:nvPr/>
        </p:nvPicPr>
        <p:blipFill>
          <a:blip r:embed="rId4"/>
          <a:stretch/>
        </p:blipFill>
        <p:spPr>
          <a:xfrm>
            <a:off x="457200" y="114300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16765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590760" y="32907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pastel de 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9" descr="special-k-red-berries-cereal-detail-prod"/>
          <p:cNvPicPr/>
          <p:nvPr/>
        </p:nvPicPr>
        <p:blipFill>
          <a:blip r:embed="rId5"/>
          <a:stretch/>
        </p:blipFill>
        <p:spPr>
          <a:xfrm>
            <a:off x="6477120" y="3733920"/>
            <a:ext cx="2666880" cy="2133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0"/>
          <p:cNvSpPr/>
          <p:nvPr/>
        </p:nvSpPr>
        <p:spPr>
          <a:xfrm>
            <a:off x="6627240" y="584208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cereal con f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2" descr="orange-juice-hair-conditioner"/>
          <p:cNvPicPr/>
          <p:nvPr/>
        </p:nvPicPr>
        <p:blipFill>
          <a:blip r:embed="rId6"/>
          <a:stretch/>
        </p:blipFill>
        <p:spPr>
          <a:xfrm>
            <a:off x="3809880" y="3733920"/>
            <a:ext cx="2000520" cy="2133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3"/>
          <p:cNvSpPr/>
          <p:nvPr/>
        </p:nvSpPr>
        <p:spPr>
          <a:xfrm>
            <a:off x="3576240" y="58420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zumo de na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3699720" y="57780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60600" y="533520"/>
            <a:ext cx="79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Para el almuerzo 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2"/>
          <a:stretch/>
        </p:blipFill>
        <p:spPr>
          <a:xfrm>
            <a:off x="0" y="1752480"/>
            <a:ext cx="2459160" cy="1836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-152280" y="3581280"/>
            <a:ext cx="27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os macarrones con qu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"/>
          <p:cNvPicPr/>
          <p:nvPr/>
        </p:nvPicPr>
        <p:blipFill>
          <a:blip r:embed="rId3"/>
          <a:stretch/>
        </p:blipFill>
        <p:spPr>
          <a:xfrm>
            <a:off x="3265560" y="1787400"/>
            <a:ext cx="2739960" cy="1825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3906720" y="36241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"/>
          <p:cNvPicPr/>
          <p:nvPr/>
        </p:nvPicPr>
        <p:blipFill>
          <a:blip r:embed="rId4"/>
          <a:stretch/>
        </p:blipFill>
        <p:spPr>
          <a:xfrm>
            <a:off x="200160" y="4322880"/>
            <a:ext cx="2406600" cy="1601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6"/>
          <p:cNvSpPr/>
          <p:nvPr/>
        </p:nvSpPr>
        <p:spPr>
          <a:xfrm>
            <a:off x="253080" y="5911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ristina"/>
              </a:rPr>
              <a:t>Las papas f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"/>
          <p:cNvPicPr/>
          <p:nvPr/>
        </p:nvPicPr>
        <p:blipFill>
          <a:blip r:embed="rId5"/>
          <a:stretch/>
        </p:blipFill>
        <p:spPr>
          <a:xfrm>
            <a:off x="6553080" y="1787400"/>
            <a:ext cx="2049480" cy="18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8"/>
          <p:cNvSpPr/>
          <p:nvPr/>
        </p:nvSpPr>
        <p:spPr>
          <a:xfrm>
            <a:off x="6629400" y="36133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"/>
          <p:cNvPicPr/>
          <p:nvPr/>
        </p:nvPicPr>
        <p:blipFill>
          <a:blip r:embed="rId6"/>
          <a:stretch/>
        </p:blipFill>
        <p:spPr>
          <a:xfrm>
            <a:off x="3265560" y="4336920"/>
            <a:ext cx="2739960" cy="1587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9"/>
          <p:cNvSpPr/>
          <p:nvPr/>
        </p:nvSpPr>
        <p:spPr>
          <a:xfrm>
            <a:off x="3727800" y="5924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El 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"/>
          <p:cNvPicPr/>
          <p:nvPr/>
        </p:nvPicPr>
        <p:blipFill>
          <a:blip r:embed="rId7"/>
          <a:stretch/>
        </p:blipFill>
        <p:spPr>
          <a:xfrm>
            <a:off x="6242040" y="4322880"/>
            <a:ext cx="2394000" cy="1589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6776640" y="5924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50280" y="685800"/>
            <a:ext cx="86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Impact"/>
              </a:rPr>
              <a:t>Para la cena me gusta com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2133720" cy="160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300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4640" y="31179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124000" cy="1613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2680" y="31179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t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400800" y="152388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360" y="3124080"/>
            <a:ext cx="37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Los espaguetis con s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de to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57200" y="4038480"/>
            <a:ext cx="2057400" cy="187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6880" y="59436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rollo de l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505320" y="4038480"/>
            <a:ext cx="175248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66240" y="5943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248520" y="4038480"/>
            <a:ext cx="2305080" cy="1890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5943600"/>
            <a:ext cx="10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7440" y="-144360"/>
            <a:ext cx="91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Script MT Bold"/>
              </a:rPr>
              <a:t>Para el postre me gusta com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1868400" cy="234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920" y="2892600"/>
            <a:ext cx="24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Un helad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vai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124080" y="685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76800" y="292248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 torta d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00800" y="685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50640" y="2928960"/>
            <a:ext cx="363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s gallet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chispas d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240" y="5977080"/>
            <a:ext cx="21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El pastel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calab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3124080" y="3733920"/>
            <a:ext cx="2438640" cy="226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80760" y="597708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s f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553080" y="38098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746400" y="609588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El ba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1:02Z</dcterms:created>
  <dc:creator>gleasoneli</dc:creator>
  <dc:description/>
  <dc:language>en-US</dc:language>
  <cp:lastModifiedBy>gleasoneli</cp:lastModifiedBy>
  <dcterms:modified xsi:type="dcterms:W3CDTF">2012-04-05T14:10:14Z</dcterms:modified>
  <cp:revision>14</cp:revision>
  <dc:subject/>
  <dc:title>Slide 1</dc:title>
</cp:coreProperties>
</file>